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A8D-78A0-48B2-B306-E5A294C0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749-95C9-4F7F-AAD8-06D6F96C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CC5-2FDA-452E-A8A8-841528B0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201-C5D8-47F8-B591-0877FED8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33A-7D0E-45AB-B8A3-C7778B93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692-250E-4970-BFFD-24653CD3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6CC-3525-4732-ADC5-E5EC21B0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D7D-0B01-4548-9C88-2C680E05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E3E-E443-45AE-A1BA-FC7E456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CD1-29FC-4994-AB97-99A6F39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DCA-0265-4568-B650-954A9F9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104-2B95-4E27-8986-C3299DC5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434-003C-46BB-9060-09144145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empus Sans ITC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Tempus Sans ITC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Power is divided between national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ym itry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vladimeer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Tempus Sans ITC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Higher prices make it harder to buy necessities, like food and clothes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533520" y="419112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empus Sans ITC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Tempus Sans ITC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empus Sans ITC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Tempus Sans ITC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empus Sans ITC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Tempus Sans ITC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empus Sans ITC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5937120" y="40672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182240" y="41497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kates"/>
          <p:cNvPicPr/>
          <p:nvPr/>
        </p:nvPicPr>
        <p:blipFill>
          <a:blip r:embed="rId1"/>
          <a:stretch/>
        </p:blipFill>
        <p:spPr>
          <a:xfrm>
            <a:off x="4648320" y="5210280"/>
            <a:ext cx="1752480" cy="16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tent"/>
          <p:cNvPicPr/>
          <p:nvPr/>
        </p:nvPicPr>
        <p:blipFill>
          <a:blip r:embed="rId2"/>
          <a:stretch/>
        </p:blipFill>
        <p:spPr>
          <a:xfrm>
            <a:off x="2819520" y="5486400"/>
            <a:ext cx="1533240" cy="95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mpus Sans ITC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occer ball.jpg"/>
          <p:cNvPicPr/>
          <p:nvPr/>
        </p:nvPicPr>
        <p:blipFill>
          <a:blip r:embed="rId3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467240" y="3911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empus Sans IT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75% of people live in 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t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michael buzzell</dc:creator>
  <dc:description/>
  <dc:language>en-US</dc:language>
  <cp:lastModifiedBy>michael buzzell</cp:lastModifiedBy>
  <dcterms:modified xsi:type="dcterms:W3CDTF">2010-12-19T14:04:31Z</dcterms:modified>
  <cp:revision>14</cp:revision>
  <dc:subject/>
  <dc:title>Present Day Russia</dc:title>
</cp:coreProperties>
</file>